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59A0-4FED-402D-A5B6-760EF3D19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0E7A-D4AA-4087-B6A5-E5EF5611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FE58-70A0-4811-B342-5470BB1C7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B234-739E-4D0E-8A8A-DAE1D2EFF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B6530-EBE1-4006-9578-1402DFEEF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4A78-CA16-4BB1-B7B8-77075C8A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3927-89B6-48ED-8185-4DDB8E91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00DA-1509-4F24-82FB-5845D7A5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BD75-B8D6-41A8-BE41-42946923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F1B2-C9B4-4F4D-8373-82C2CCE6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709E-4878-41EE-B1BA-402B69DC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E74A-BAD6-4BDD-A3BB-904458D3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A8F7-5805-47FA-B36C-ECE6A797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264D-E28B-4DA4-AFB7-B836E750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E0B1-4894-4612-B05E-48514686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508E-3A7B-4C8F-9CA9-833BCECA5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8D04-6447-4EEF-837C-5EB77A801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7CDC-20EC-4787-82D7-9A364100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3CD4-BBD3-4C7E-BCDC-B0EDDE2E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E56B-20DC-46A6-B482-DEA130B3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91C9-E618-4608-A34C-AB434A17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FE7A-65EB-4664-8D7D-D332697B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654E-E084-4B8B-9B86-3FDEF9B0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D238-245E-4C03-BEE7-53F2E8E6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FCAE-FC61-4D3F-BFC1-AA390530623A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183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0594-9A7D-4274-A3B2-7C66FFCEDCA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nglish-Sept. 11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1"/>
          <a:stretch/>
        </p:blipFill>
        <p:spPr>
          <a:xfrm>
            <a:off x="5334120" y="2209680"/>
            <a:ext cx="3333600" cy="44388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"/>
          <p:cNvPicPr/>
          <p:nvPr/>
        </p:nvPicPr>
        <p:blipFill>
          <a:blip r:embed="rId2"/>
          <a:stretch/>
        </p:blipFill>
        <p:spPr>
          <a:xfrm>
            <a:off x="762120" y="2448000"/>
            <a:ext cx="35938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O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omework stori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ne/Moo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ad 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The Rave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atch Clip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o questions with partn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omework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O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 like the south better then the north, however if I had to travel east, I would go to new york city. The capitol of the united states from 1785 to 1790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Year:century:: cent:________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Rave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cus on word choice (tone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rst line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Once upon a midnight drear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are 3 things you think of when you hear the word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dreary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Questions to think about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two words are repeated over and over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o was Lenore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happened to her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s the bird real, or a figment of the man’s imagination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y would Poe choose a raven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mework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-Ro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-Audien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-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-Topic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xample: R- ant, A- young boy, F- verbal plea, T- convincing the boy not to step on you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ssign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ole-Rave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udience-M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rmat-Poem 10 lin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pic-Why he is bothering the ma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cus on tone, amusing or creepy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03:46:14Z</dcterms:created>
  <dc:creator>Angie</dc:creator>
  <dc:description/>
  <dc:language>en-US</dc:language>
  <cp:lastModifiedBy>Angie McCall</cp:lastModifiedBy>
  <dcterms:modified xsi:type="dcterms:W3CDTF">2012-09-11T19:57:40Z</dcterms:modified>
  <cp:revision>15</cp:revision>
  <dc:subject/>
  <dc:title>English Exciting Day 4</dc:title>
</cp:coreProperties>
</file>